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28D-D913-4C9C-8AE3-DBC32FE9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4BC-5FD4-4D21-B18C-A9CD0DCD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4D0-893F-46EE-A251-ACD3D90E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E77-1068-48DE-B28F-5B9566AB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AAC1-501F-4CC3-90FE-436164E8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C659-B0F7-4E25-8522-E5292DE7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6F59-C3C5-4DC4-9CC4-4C98CA95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3504-B3BF-45F7-885E-EA1346D6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7856-3D1E-47D5-BD9F-B8F74945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3B9B-8CFD-4917-A0CF-82377B99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BF2F-1187-4548-994C-E7F51A05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B4E-908D-45E8-83EB-4ABCA8B9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3DCB-DE6D-43B0-A006-969FB417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7EC2-0AB1-4E33-89CB-F7ABFAAE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2EAC-5BD3-4C84-895F-23C66255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82D2-5664-4A10-80E2-686FCB93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5E1B-C00C-4FCD-9A3C-7383841B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9D5-578B-4146-97FD-1E2A34E4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8AA-500F-4877-B31D-6960361F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2D4-34E6-437B-8AD0-FBF8DFF7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3A8-DCE1-43DE-9992-B035B701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ED0-FD22-4344-BEF2-EFCD7EE0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D4F-A93E-4496-9C82-0093D3DC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EDA-5CD5-4F8E-8949-23A76BFE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9A38-67CF-4020-9D85-1D34FB2D292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7564-FABB-4078-84D1-A499E20DAED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glish English-Sept. 1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reshm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ne/M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he Rav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tch Cli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 questions with partn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mewo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-R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-Aud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-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-Topi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R- ant, A- young boy, F- verbal plea, T- convincing the boy not to step on yo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 assig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e-Fortuna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udience-The other party go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at-story follow Poe’s example. (At least one pag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pic-Why you didn’t deserve what happened to yo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dgar Allan Po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nown for his mystery stori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e of the first short story writ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dered a part of the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Romantic Moveme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259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ne/Moo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Tone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author’s </a:t>
            </a: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attitude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, stated or implied, toward a subject. Some possible attitudes are pessimism, optimism, earnestness, seriousness, bitterness, humorous, and joyful. An author’s tone can be revealed through choice of words and detail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Mood 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climate of  </a:t>
            </a: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feeling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in a literary work. The choice of setting, objects, details, images, and words all contribute towards creating a specific mood. For example, an author may create a mood of mystery around a character or setting but may treat that character or setting in an ironic, serious, or humorous ton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Rav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cus on word choice (ton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line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Once upon a midnight drea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are 3 things you think of when you hear the wor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drear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rite your own story with the first line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ce upon a midnight dreary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ke Poe, focus on creating creepy image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46:14Z</dcterms:created>
  <dc:creator>Angie</dc:creator>
  <dc:description/>
  <dc:language>en-US</dc:language>
  <cp:lastModifiedBy>Angie</cp:lastModifiedBy>
  <dcterms:modified xsi:type="dcterms:W3CDTF">2011-09-15T06:20:48Z</dcterms:modified>
  <cp:revision>5</cp:revision>
  <dc:subject/>
  <dc:title>English Exciting Day 4</dc:title>
</cp:coreProperties>
</file>